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18FFF2-55CD-4161-BB41-FCAE4F8458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023B7B-8B1B-41E8-B5EE-E4658100C1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3A1C84-465E-4C0E-9E3C-585514768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B908-DB8B-48EA-A911-DC323F09D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9AEC-8E63-4F2C-AA1A-D7BEE7B80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0BCF-619D-4544-8141-C4509597E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384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56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0D18-45CF-4903-8024-F0FAB9821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B864-6F7E-43C9-9DA6-88C8E4D04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6018-9019-4558-8776-B6EB798C7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3D83-C178-4BF8-A230-948D2904A0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89E7-CAD8-4117-A62F-3729A9201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6C2C-6D95-4075-A854-AC26161DE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C6A5-1B75-46BF-A9A7-560F5578F6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A58B-8546-471B-88D1-41D78B986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A99D-24F6-495F-8CA1-919A135AF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A081-10E7-4DA4-83A0-95C4A8C1D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8D84-D837-44EC-A6CF-4711F57C5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1F06-CD98-493C-95E2-2FD52D9528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F90D-19B5-4AED-BF48-5E51266A8D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384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556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6FF7-4656-434B-9D30-8958EC197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046B-5C8E-4B69-A01E-9B5431C86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B0ED-6A00-44B1-A387-EE1895E8D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B4EC-76AE-4657-960D-CBBF7486C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27AA-FBF2-4D4F-A57D-4B27F66CD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A133-9241-4864-8136-29017EA9D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2BC8-5D50-4FC7-B566-D716F7977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26F2-39FD-48F3-BC83-3DD1D6220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B0D89C-5616-4F71-934C-A04568D546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4640" cy="0"/>
            </a:xfrm>
            <a:prstGeom prst="line">
              <a:avLst/>
            </a:prstGeom>
            <a:ln w="3816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428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2e5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2e5d5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88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B2535A-7E7D-48C3-94F4-110AC967787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857160"/>
            <a:ext cx="7772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3700" spc="-1" strike="noStrike">
                <a:solidFill>
                  <a:srgbClr val="ffffff"/>
                </a:solidFill>
                <a:latin typeface="Arial Black"/>
              </a:rPr>
              <a:t>Тема: Рахунки бухгалтерського облік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81952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628560" indent="-628560" algn="ctr">
              <a:spcBef>
                <a:spcPts val="83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"/>
              </a:rPr>
              <a:t>1.Бухгалтерські рахунк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 algn="ctr">
              <a:spcBef>
                <a:spcPts val="83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"/>
              </a:rPr>
              <a:t>2.Види рахунків відносно балансу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56000" y="1905120"/>
            <a:ext cx="27212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6094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і рахунк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1450800"/>
            <a:ext cx="8766360" cy="52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ий рахуно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+                            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              Зменшення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+                    Оборот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267080"/>
            <a:ext cx="3733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86000"/>
            <a:ext cx="3581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572000"/>
            <a:ext cx="373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286000"/>
            <a:ext cx="144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nodeType="clickEffect" fill="hold">
                      <p:stCondLst>
                        <p:cond delay="0"/>
                      </p:stCondLst>
                      <p:childTnLst>
                        <p:par>
                          <p:cTn id="9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3300" spc="-1" strike="noStrike">
                <a:solidFill>
                  <a:srgbClr val="ffffff"/>
                </a:solidFill>
                <a:latin typeface="Arial Black"/>
              </a:rPr>
              <a:t>Пасивні рахунк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01880"/>
            <a:ext cx="7924680" cy="41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Пасивний рахуно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                             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           Збільше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 -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Оборот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86000"/>
            <a:ext cx="3276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286000"/>
            <a:ext cx="180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962520"/>
            <a:ext cx="3429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267080"/>
            <a:ext cx="3429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4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Активно-пасивні рахунки </a:t>
            </a:r>
            <a:r>
              <a:rPr b="0" i="1" lang="uk-UA" sz="33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1840" y="1749600"/>
            <a:ext cx="875988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 Black"/>
              </a:rPr>
              <a:t>До </a:t>
            </a:r>
            <a:r>
              <a:rPr b="0" i="1" lang="uk-UA" sz="3600" spc="-1" strike="noStrike">
                <a:solidFill>
                  <a:srgbClr val="ffffff"/>
                </a:solidFill>
                <a:latin typeface="Arial Black"/>
              </a:rPr>
              <a:t>позабалансов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2080" y="1822320"/>
            <a:ext cx="8431200" cy="45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300" spc="-1" strike="noStrike">
                <a:solidFill>
                  <a:srgbClr val="ffffff"/>
                </a:solidFill>
                <a:latin typeface="Arial Black"/>
              </a:rPr>
              <a:t>Рахунок –</a:t>
            </a: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908000"/>
            <a:ext cx="7711920" cy="4035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66960" cy="24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993600"/>
            <a:ext cx="8003880" cy="533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28321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450720"/>
            <a:ext cx="7711920" cy="1390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Рахунок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(назва рахунка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Arial"/>
              </a:rPr>
              <a:t>Дебет                                            Кредит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200400"/>
            <a:ext cx="1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657600"/>
            <a:ext cx="716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657600"/>
            <a:ext cx="14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880" y="304920"/>
            <a:ext cx="7796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889280"/>
            <a:ext cx="7718400" cy="4073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8200" y="19080"/>
            <a:ext cx="2925720" cy="184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Наприкла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517840"/>
            <a:ext cx="7711920" cy="342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780920" cy="25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nodeType="clickEffect" fill="hold">
                      <p:stCondLst>
                        <p:cond delay="0"/>
                      </p:stCondLst>
                      <p:childTnLst>
                        <p:par>
                          <p:cTn id="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31. “ Рахунки в банку “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-т                                  К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чатковий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6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1.250000               4.2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2.50000                 5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3.1500                   6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рот 301500       Оборот 43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нце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лиш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сальдо) 858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267080"/>
            <a:ext cx="3733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86000"/>
            <a:ext cx="3581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373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180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219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341280"/>
            <a:ext cx="77119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426960" y="3133800"/>
            <a:ext cx="7829280" cy="2950560"/>
            <a:chOff x="426960" y="3133800"/>
            <a:chExt cx="7829280" cy="2950560"/>
          </a:xfrm>
        </p:grpSpPr>
        <p:sp>
          <p:nvSpPr>
            <p:cNvPr id="125" name=""/>
            <p:cNvSpPr/>
            <p:nvPr/>
          </p:nvSpPr>
          <p:spPr>
            <a:xfrm>
              <a:off x="2772720" y="3552840"/>
              <a:ext cx="3141000" cy="1200600"/>
            </a:xfrm>
            <a:prstGeom prst="ellipse">
              <a:avLst/>
            </a:prstGeom>
            <a:solidFill>
              <a:srgbClr val="d6e0e0">
                <a:alpha val="50000"/>
              </a:srgbClr>
            </a:solidFill>
            <a:ln w="468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6880" y="3133800"/>
              <a:ext cx="8344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ас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7920" y="4010400"/>
              <a:ext cx="3141000" cy="120060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21760" y="4461120"/>
              <a:ext cx="83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о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ас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2720" y="4467600"/>
              <a:ext cx="3141000" cy="1200600"/>
            </a:xfrm>
            <a:prstGeom prst="ellipse">
              <a:avLst/>
            </a:prstGeom>
            <a:solidFill>
              <a:srgbClr val="428a8c">
                <a:alpha val="50000"/>
              </a:srgbClr>
            </a:solidFill>
            <a:ln w="468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6880" y="5787360"/>
              <a:ext cx="83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забалансов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77520" y="4010400"/>
              <a:ext cx="3141000" cy="1200600"/>
            </a:xfrm>
            <a:prstGeom prst="ellipse">
              <a:avLst/>
            </a:prstGeom>
            <a:solidFill>
              <a:srgbClr val="428a8c">
                <a:alpha val="50000"/>
              </a:srgbClr>
            </a:solidFill>
            <a:ln w="468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960" y="4461120"/>
              <a:ext cx="834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7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і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nodeType="clickEffect" fill="hold">
                      <p:stCondLst>
                        <p:cond delay="0"/>
                      </p:stCondLst>
                      <p:childTnLst>
                        <p:par>
                          <p:cTn id="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32:33Z</dcterms:created>
  <dc:creator>one</dc:creator>
  <dc:description/>
  <dc:language>en-US</dc:language>
  <cp:lastModifiedBy>Пользователь</cp:lastModifiedBy>
  <dcterms:modified xsi:type="dcterms:W3CDTF">2021-02-10T12:35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